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notesSlide5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4156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4176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0CC74-C8EF-4278-BAF9-00E5C93C03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2628B-8C08-44F0-896A-3592C2F8C5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89A79-F642-4CA0-BA84-705C1AC8D4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"/>
          <p:cNvSpPr/>
          <p:nvPr/>
        </p:nvSpPr>
        <p:spPr>
          <a:xfrm>
            <a:off x="1143000" y="685800"/>
            <a:ext cx="454968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49660-5648-427C-A8A8-D0158DDF73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1143000" y="685800"/>
            <a:ext cx="455940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5992F-2A04-416A-A9C1-88473ED619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"/>
          <p:cNvSpPr/>
          <p:nvPr/>
        </p:nvSpPr>
        <p:spPr>
          <a:xfrm>
            <a:off x="1143000" y="685800"/>
            <a:ext cx="454968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78581-D2F7-4B3D-B8F3-B7F66C4022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1143000" y="685800"/>
            <a:ext cx="4546440" cy="34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DE764-5D35-4B75-A235-E0B4781428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"/>
          <p:cNvSpPr/>
          <p:nvPr/>
        </p:nvSpPr>
        <p:spPr>
          <a:xfrm>
            <a:off x="1143000" y="68580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7E5AD-F51B-41B7-A8F3-ACA4F361E1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"/>
          <p:cNvSpPr/>
          <p:nvPr/>
        </p:nvSpPr>
        <p:spPr>
          <a:xfrm>
            <a:off x="1143000" y="685800"/>
            <a:ext cx="4546440" cy="34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ED199-5B06-498B-8612-C8646659B0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1143000" y="685800"/>
            <a:ext cx="455292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E000C-7E8E-417E-AE9D-7BB63A536B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1143000" y="685800"/>
            <a:ext cx="4546440" cy="34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3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A856F-608D-4BEA-8C5C-D99B9BE0B7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1E86F-FCE9-4C58-81B9-30CA054FA5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9327A-B06D-4F71-AA0A-BA17D836F0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5F3AB-B9A0-49E4-B452-31D3F237A1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D86FB-B7C7-43F0-8F18-6DBB5EFD23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"/>
          <p:cNvSpPr/>
          <p:nvPr/>
        </p:nvSpPr>
        <p:spPr>
          <a:xfrm>
            <a:off x="1143000" y="685800"/>
            <a:ext cx="4546440" cy="34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74EEB-CAF1-4041-B3D7-608D8C6A79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"/>
          <p:cNvSpPr/>
          <p:nvPr/>
        </p:nvSpPr>
        <p:spPr>
          <a:xfrm>
            <a:off x="1143000" y="685800"/>
            <a:ext cx="455940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8B77F-B3C7-4F5C-A419-757FB9FD72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F80EB-A150-46D8-B5E3-C7B26AC52F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3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99EB2-42CC-48B6-B566-9A73F1765C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"/>
          <p:cNvSpPr/>
          <p:nvPr/>
        </p:nvSpPr>
        <p:spPr>
          <a:xfrm>
            <a:off x="1143000" y="685800"/>
            <a:ext cx="455148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08847-6103-4D1A-95FB-709C99DD07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1143000" y="685800"/>
            <a:ext cx="4557600" cy="34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029E6-4D80-4E68-9537-368EA60224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1143000" y="68580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9FDB-5B39-408A-94B8-A64D6173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07880"/>
            <a:ext cx="81993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3F9F-3008-49B0-8062-CE3E2B95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8760" y="171900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0788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8760" y="400788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1317-9181-4437-BFC5-65DA8430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263988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9560" y="1719000"/>
            <a:ext cx="263988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1560" y="1719000"/>
            <a:ext cx="263988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07880"/>
            <a:ext cx="263988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9560" y="4007880"/>
            <a:ext cx="263988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1560" y="4007880"/>
            <a:ext cx="263988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33CA-8493-4561-A8A7-9C6E3159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A8AB-9E0D-4D7A-BF5A-10895A11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45B4-E551-4671-936D-293D905E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10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8760" y="1719000"/>
            <a:ext cx="40010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1C13-5AD4-4C94-94DC-338AB3A5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F9B1-29CF-44E8-999F-62A86409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13560" cy="58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C978-262B-4497-9E13-CDC84E2C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8760" y="1719000"/>
            <a:ext cx="40010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0788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B977-EDD0-4DF5-BECE-212C21A4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10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8760" y="171900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8760" y="400788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FE11-0E34-405A-947B-B2C19495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8760" y="171900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07880"/>
            <a:ext cx="81993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54E7-44EC-4A5E-8235-7AE3724E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51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1718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1718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034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656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034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EAA8F-7D6B-4322-B16F-E61B98B8DE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9" descr="C:\Users\birdtr\Desktop\LCJ-from-timdesk\2011-06-LCJ\CEWG-square-image.jpg"/>
          <p:cNvPicPr/>
          <p:nvPr/>
        </p:nvPicPr>
        <p:blipFill>
          <a:blip r:embed="rId3"/>
          <a:stretch/>
        </p:blipFill>
        <p:spPr>
          <a:xfrm>
            <a:off x="9360" y="166680"/>
            <a:ext cx="140184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0"/>
            <a:ext cx="1908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360" y="653760"/>
            <a:ext cx="678168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us of Embedded Linux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00000" y="30686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atus o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mbedded Linu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ptember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692360" y="5589720"/>
            <a:ext cx="624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Tim Bi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 Group Cha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LF CE Work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344520" y="676440"/>
            <a:ext cx="8454960" cy="18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3.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nel log r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d printk (new format), with ta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lwn.net/Articles/492125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for writing NFC driv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ation of ramoops and pst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of work to support Android ram_cons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rob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-space prob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s://lwn.net/Articles/499190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sle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3.6 (probable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oid RAM console functionality integrated into pst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n’t found much else yet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ings to wat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ice tre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oid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latile ra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M FIQ -&gt; KDB gl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g.LITT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 kernel image for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 of lots of device tree and ARM refactoring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LinuxCon Japan talk by Deepak Sax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52480" y="1719000"/>
            <a:ext cx="69040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Kernel Ver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chnology Ar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CE Workgroup Pro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Other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up 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e-electrons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eat overview of known techniq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free-electrons.com/pub/conferences/2011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ivi/boot-time.pd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ee-electons servi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udit, Report, Knowledge transf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stemd in embed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d starts services and daemons on-dem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w first demo of systemd on Angstrom at ELCE 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up Time technolog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napshot bo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ld topic, but still very pop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s work both inside and outside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t much mainlin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ELC 2011 presentation by Kang Dongwo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spend-to-bo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spend to both RAM and d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RAM loses power, can unhibernate from d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phic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hing new here at the API layer (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nGL ES is de-facto standard every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roid had Skia, but is moving to HWU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platforms can use Clutter, Qt, and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mebuffer is going away, with acceleration required for larger scre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phics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ts of work around memory management between kernel, user-space and GP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oid has /dev/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unified approach to buffer management and sharing between display, GPU, camera, codecs, etc, new in Ice Cream Sandwi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lacement for pm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line has Contiguous Memory Allocator (CMA) and dma-bu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lwn.net/Articles/468044/ - C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lwn.net/Articles/470339/ - dma-bu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Syste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itional flash-bas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BI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placing JFFS2 as default raw flash FS of choi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ill needs some boot time improve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X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vanced XIP File system – developed by Intel/Numonyx but never mainlin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ny uses this, we've been preparing it for a mainlining effor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Systems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ts of companies using EXT4 on eMM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nt to optimize Linux block filesystem layers for fla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Arnd Bergmann's talk at ELC Europe 2011 on filesystem performance on cheap flash m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Ken Tough’s ELC 2012 tal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 WG project to analyze filesystem performance on eMM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52480" y="1719000"/>
            <a:ext cx="69040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ernel Ver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chnology Ar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 Workgroup Pro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ther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wer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199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ntime Power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vely new ability to suspend and resume individual system compon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http://lwn.net/Articles/347573/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Magnus Damm’s slides at: http://elinux.org/ELC_2011_Presen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ice power domai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of devices sharing power resources (clocks, power plane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Rafael Wysocki’s talks at LinuxCon Japan 2011 and ELC Europe 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wer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sle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kelock-compatible solution by Rafael Wysoc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tp://lwn.net/Articles/479841/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fael: 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is series tests the theory that the easiest way to sell a once rejected feature is to advertise it under a different na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lined in v3.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wer-aware schedul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lwn.net/Articles/512487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ystem Siz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582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d talks recentl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rren Hart at ELCE 2011 – poky-ti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nel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i Kleen’s Link-Time Optimization pat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 WG project for kernel dynamic memory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LVM compilation of the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space is memory problem area n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OM killer or OOM avoidance is big iss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pplication lifecyc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pplication hin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Volatile Ranges = the new hot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k Time Optimiz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719000"/>
            <a:ext cx="83818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http://lwn.net/Articles/512548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er gcc (4.7) supports adding extra meta-data about routines (gimple) at compile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ker can now do whole-program optimization at link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i Kleen has 74 patches that add support to the Linux kernel for LTO fea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 functions as 'visible' to avoid dead-code elim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just compilation flags to be consis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dependencies to avoid conflicts for features which can't conform to LTO requirements (ftrac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TO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ger kernel builds (4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memory during build (up to 9G required for allyesconfi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tle bugs from optimiz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.g. duplicate code elimination caused a pointer comparison fail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ht now - NO size benef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ance: (very prelimina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ackbench – 5%, network benchmark – up to 18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TO (cont. 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am I so excited about thi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have recently been studying automatic kernel reduction techn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not tractable to reduce kernel manu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ole system optimization is a critical part of automatic re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TO and LLVM represent first systematic approach to 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e: This work obsoletes -ffunction-se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kes Linux-tiny in a whole new dir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ssible LTO benefi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719360"/>
            <a:ext cx="830592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6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n automatically drop unused global functions and variab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cut down on ifd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al inlin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line only parts of a function like a test at the begi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ptimize arguments to global func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 unnecessary args, optimize input/outpu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tect function side effects and optimize call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Caller can keep some globals in registers over c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tect read only variables and optimize th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place indirect calls with direct calls, enabling other optimiza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 constant propagation and specialization for func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function is called commonly with a constant it can generate a special  variant of this function optimized for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6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kmalloc_GFP_KERNEL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olatile Rang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75212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 by John Stult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pired by Android feature in ashm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tp://lwn.net/Articles/468896/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tp://lwn.net/Articles/500382/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cooperation between the kernel and applications on "volatile" memory u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view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 notifies kernel about re-claimable memory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mainlined y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olatile Ranges Use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allocates memory and uses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notifies app that memory is running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marks areas that can be re-created (like image caches or layout areas) as vola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 can free those areas if nee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pplication wants to use the data, it tries to unmark it as vola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rea was freed, the call fails – the application must regenerate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rea was not freed, the call succeeds – the application can use the data a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752480" y="1719000"/>
            <a:ext cx="69040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Kernel Ver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Technology Ar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 Workgroup Pro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Other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52480" y="1719000"/>
            <a:ext cx="69040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ernel Ver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Technology Ar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CE Workgroup Pro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Other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EWG Contract Work 201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MC tu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ynamic memory re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line FIQ debug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Man support for WiFi dir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 kexecbo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systemd and ude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BIFS robustness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-boot log buffer sha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MMC tuning gu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project will analyse EXT3, EXT4 and BTRFS on a variety of block-based flash parts on a few different development bo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put will be a document describing best practices for tuning Linux block-based filesystems for block-based flash file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Cogent Embed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 work has just begu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ynamic memory redu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6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ument and collect data on kernel dynamic memory allo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recommendations for areas where dynamic kernel memory usage could be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actor: Ezequiel Gar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is under way to use existing kmem_events (ftrace) infrastructure to report dynamic memory usage in the ker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patches already accepted upstream to improve memory trac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is in progress to create tool for visualization of kernel memory u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e http://elinux.org/Kernel_dynamic_memory_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ivers kmallo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1719000"/>
            <a:ext cx="8199360" cy="4381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birdtr\Desktop\Jamboree42\drivers-kmalloc-kfree-ring.png"/>
          <p:cNvPicPr/>
          <p:nvPr/>
        </p:nvPicPr>
        <p:blipFill>
          <a:blip r:embed="rId2"/>
          <a:stretch/>
        </p:blipFill>
        <p:spPr>
          <a:xfrm>
            <a:off x="380880" y="1538280"/>
            <a:ext cx="84312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kmallo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Users\birdtr\Desktop\Jamboree42\linux-kmalloc-kfree-ring"/>
          <p:cNvPicPr/>
          <p:nvPr/>
        </p:nvPicPr>
        <p:blipFill>
          <a:blip r:embed="rId1"/>
          <a:stretch/>
        </p:blipFill>
        <p:spPr>
          <a:xfrm>
            <a:off x="458640" y="1066680"/>
            <a:ext cx="84265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inline FIQ debugger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RM FIQ glue code and integrate with existing kernel debu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use of ARM FIQ (non maskable interrupt) to activate a kernel debu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oid used it's own debug monitor, and has phones that are configured to trigger this on the earphone jack (also supplying a serial console on the earphone j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is on hold because Anton Vorontsov is apparently already doing thi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7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e https://lkml.org/lkml/2012/7/30/12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7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s should show in mainline so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nMann WiFi dire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support for WiFi direct to ConnMann wireless connection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ProF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 not engaged y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mprove kexecboot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improvements to kexecboot booloa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load from net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I improv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Yuri Bushmele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 Finalizing contr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asure systemd and udev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 the overhead and performance of system and udev, as used in embedded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 Not started y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BIFS robustness 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support for "power cut" simulations to UBIFS, to allow for finding and fixing filesystem bugs that occur when power is 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 Not started y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ernel Ver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3.1 –  24 Oct 2011 – 95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r due to kernel.org brea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3.2 – 4 Jan 2012 – 72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3.3 – 18 Mar 2012 – 74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3.4 – 20 May 2012 – 63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3.5 – 21 July 2012 – 62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3.6-rc6 – 16 Sep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ct v3.6 ANY DA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-boot log buffer sharing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support for U-Boot and the Linux kernel to share their log buffer, to allow for easier collection of joint lo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 Not started y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ong-term Projec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oid mainline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 Term Support Initiative (LTS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droid mainline stat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3.3 kernel (with 12 lines of patches) boots AOS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Linux status pag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elinux.org/Android_Mainlining_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s reported on at Kernel Summi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lwn.net/Articles/514901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inline status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fic piec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kelocks =&gt; autoslee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hmem =&gt; (partly) volatile ra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m console =&gt; persistent 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roid USB gadget dri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arm-dev =&gt; POSIX alarm ti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Q glue code (in progres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PIO timers =&gt; LED triggers (??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memory killer =&gt; vmevents (??) in prog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inline status (cont. 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's not been don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ger – a few cleanups, but nothing to generalize it for other 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nder – a few people talking ab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O memory alloc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ork in progress to adopt features into dma-bu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twork security – may stay out-of-tree fore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droid Meta-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719360"/>
            <a:ext cx="8199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cial issues have largely been worked 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in Cross was at Kernel Summ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body complains like they used 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aro doing lots of "proxy" work on the fea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oid not using a continuous stream of kernels any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ll use selected kernel versions lon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7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urrently plan to use 3.4 in next generation produ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body really worries about "Android fork" any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ll lots of work left, thoug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ong Term Support Kernel for Indust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eda-san will have more information l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 report from LTSI meeting at LinuxCon 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nel version: 3.4 is the next big 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nd River supporting LTSI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cto Project supporting LTSI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fficially supported (very big new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roid using 3.4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xt community long-term = 3.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TSI 3.4 kernel is now open for contrib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TSI support by Yocto Proje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 to support multiple kernel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st upstream kernel, 6 weeks prior to rel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TSI 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qemu and 1 physical board per arch (arm, mips, ppc, x86, x86-6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means kernel and distribution testing on 10 platfo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jected kernels for Yocto Project releases (tentative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676520" y="5410080"/>
          <a:ext cx="6095880" cy="1011240"/>
        </p:xfrm>
        <a:graphic>
          <a:graphicData uri="http://schemas.openxmlformats.org/drawingml/2006/table">
            <a:tbl>
              <a:tblPr/>
              <a:tblGrid>
                <a:gridCol w="1523880"/>
                <a:gridCol w="914400"/>
                <a:gridCol w="1219320"/>
                <a:gridCol w="1218960"/>
                <a:gridCol w="121932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P relea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 LTSI, 3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 LTSI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 LTSI, 3.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TSI release schedu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rge window for LTSI 3.4 open for one mon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st opened today (Sep 19 in U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uld be released by end of y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atur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y working on AXFS pat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sung working on F2FS pat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52480" y="1719000"/>
            <a:ext cx="69040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Kernel Ver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Technology Ar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CE Workgroup Pro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ther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3.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chdog timer c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framework for handling power management domains was ad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driver/base/power/domain.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ARM SoCs now have device tree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Other Stuff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ild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o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 Organiz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oo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EM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EMU is being used everywhere, for device emulation (Android, Yoct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script QEMU implementation (!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lip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now de-facto “umbrella” tool for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to pry seasoned developers away from command 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, Ftrace and LTTng 2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 Trace Format stand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ild Syste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cto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new thing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HOB" graphical interfa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der image – created by Yocto Proje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ly can test YP with no external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y is adopting Yocto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droi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ndroid 4.1 (Jelly Bean) released July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ce Cream Sandwich unifies mobile, tablet and TV platforms in one code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one activations at 1,00,000 per 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00 million activations to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buntu for Andro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y interesting – use Android device as PC, when connected to dock (large screen and keyboar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Ev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C/Android Builders Summit – Feb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Con Japan – June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pan Jambore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nel Summit/LinuxCon US/Pl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gust 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bedded Linux Conference Europe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vember 7-9, 2012 – Barcelona, Sp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bedded Linux Conference 20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bruary 20-22, 2013 – San Francis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ighlights from recent ev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eeing memory under press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ohn Stultz – "Letting Go"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tp://www.linuxplumbersconf.org/2012/wp-content/uploads/2012/08/LettingGo.pd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 coredump (see next slid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nel summ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M mini-summ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t enough embedded cont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bout ARM64, big.LITTLE, single system image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ni core dum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ject to dump sparse core im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s a configuration-driven user ag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dumps with only requested inform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save basic register, backtrace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ves only part of the process i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host, backfills the coredump with text, read-only data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ce the mini-coredump is backfilled on the host you can use standard coredump analysis tools (gd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ject by Thomas Gleixn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iscellaneo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use of Stack Overf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eat site for answering detailed development ques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www.youtube.com/watch?v=NWHfY_lvKI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gle developers answer questions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arch: “site:stackoverflow.com &lt;question&gt;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spberry P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remely low-cost development board - $2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rgeted at students and hobby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457200" y="1719360"/>
            <a:ext cx="820908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inux wik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ttp://elinux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eb site dedicated to information for embedded Linux develop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wikipedia of embedded linux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undreds of page covering numerous topic areas: bootup time, realtime, security, power management, flash filesystem, toolchain, edi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rking on new wiki projec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ideo transcription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opic-by-topic clean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ideo Transcription Proje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6840" y="1719000"/>
            <a:ext cx="84582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 to ask volunteers to provide written versions of presentations from ev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s it easier to search for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make it much faster to review a pres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lunteers can do as little as one minute of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a is to crowd-source the effor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advertised y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ll defining process and creating templ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ly announced at ELC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http://elinux.org/Video_transcription_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3.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pin control sub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control of multiple pins as named groups, with multiplex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Documentation/pinctrlt.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ELC 2012 talk by Linus Walle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freq – DVFS for non-cpu de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M QOS now supports per-device constra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Documentation/power/pm_qos_interface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http://lwn.net/Articles/4662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752480" y="1719000"/>
            <a:ext cx="69040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Kernel Ver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Technology Ar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CE Workgroup Pro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Other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our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WN.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Arial"/>
              </a:rPr>
              <a:t>http://lwn.net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f you are not subscribed, please do 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nel Newb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Arial"/>
              </a:rPr>
              <a:t>http://kernelnewbies.org/Linux_3.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Linux wiki - </a:t>
            </a:r>
            <a:r>
              <a:rPr b="0" lang="en-GB" sz="3000" spc="-1" strike="noStrike">
                <a:solidFill>
                  <a:srgbClr val="3333cc"/>
                </a:solidFill>
                <a:latin typeface="Arial"/>
              </a:rPr>
              <a:t>http://elinux.org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pecially </a:t>
            </a:r>
            <a:r>
              <a:rPr b="0" lang="en-GB" sz="2600" spc="-1" strike="noStrike">
                <a:solidFill>
                  <a:srgbClr val="3333cc"/>
                </a:solidFill>
                <a:latin typeface="Arial"/>
              </a:rPr>
              <a:t>http://elinux.org/Event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r sli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elinux-dev mailing 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s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401940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3.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719000"/>
            <a:ext cx="81532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M large physcial address exten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Catalin Marinas talk at ELC Europe 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SA support for compressed aud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“charger manager” sub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partially resume to poll battery and re-susp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oid patches in sta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really c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3.4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versal Flash Storage host controller driv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Documentation/scsi/ufs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on clock fra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fies handling of subsystem clo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Documentation/clk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SI (High-speed synchronous serial interface) fra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for communication between CPU and cellular modem eng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3.4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MA buffer sharing AP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oteproc sub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for control of other CPUs through shared mem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pmsg  is a new mechanism for communicating with other CPUs (running non-Linu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Documentation/remoteproc.txt and rpmsg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Bird, Tim</cp:lastModifiedBy>
  <dcterms:modified xsi:type="dcterms:W3CDTF">2012-09-19T23:36:31Z</dcterms:modified>
  <cp:revision>240</cp:revision>
  <dc:subject/>
  <dc:title>elinux status</dc:title>
</cp:coreProperties>
</file>